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3.jpeg" ContentType="image/jpeg"/>
  <Override PartName="/ppt/media/image17.gif" ContentType="image/gif"/>
  <Override PartName="/ppt/media/image2.jpeg" ContentType="image/jpeg"/>
  <Override PartName="/ppt/media/image14.wmf" ContentType="image/x-wmf"/>
  <Override PartName="/ppt/media/image11.gif" ContentType="image/gif"/>
  <Override PartName="/ppt/media/image1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E0B-8CCB-4025-A4FE-CA5CB321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9FB-87AF-43FC-A788-26748AA6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E97-897A-4548-BFBA-AD4BE21A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B42-D590-41C0-9200-0089D3F1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19F-050E-480D-B6EE-D24BFD9B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BB8-05F2-45DA-ABBB-F46BF6F3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08F-602C-48B5-BCB6-64BEE1E1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C2F-D5F8-4493-9E13-9FED0DD9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148-BC49-441B-B78C-435054D9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244-9F1B-441B-81D7-191E4B67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2A6-F70F-4158-8F21-0243473C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DF8-82E5-45F7-B535-FF27E614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E604-3841-4941-8F7B-ECB443F32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18900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тская агрессивность и её прич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8900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ути коррекции поведения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521080" cy="3672000"/>
          </a:xfrm>
          <a:prstGeom prst="rect">
            <a:avLst/>
          </a:prstGeom>
          <a:ln w="19080">
            <a:solidFill>
              <a:srgbClr val="0d33f3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683520" y="5537160"/>
            <a:ext cx="46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 Статут Ирина Джемс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6   г.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189000"/>
            <a:ext cx="8713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Агресс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действие или только намерения, имеющие целью причинение вреда другому человеку, предмету. Агрессия может проявляться как физически (нанесение вреда здоровью людей, порча предметов), так и словесно (оскорбления, угрозы, унижения, преследова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773360"/>
            <a:ext cx="39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чего людям агресс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 достижения какой-нибудь цели (отнять что-либо, принудить к чему-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 самоутвер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ное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674720"/>
            <a:ext cx="403236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чины агрессив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бое, жестокое поведение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ребёнок живёт в атмосфере неприятия его, нелюбви к н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отношения со сверс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я в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ивоположные 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следовательность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сти биолог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2449440" cy="273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948360" y="5013360"/>
            <a:ext cx="1727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в своих высказываниях (употребляет нецензурные выражения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842472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сните детям, что люди используют ругательства лишь в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айн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чае, когда от отчаяния им уже не хватает сил и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ите сами з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бствен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спрашивает о значении того или иного бранного слова, не следует уходить от ответа. Постарайтесь так объяснить ребёнку значение слова, чтобы ему самому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захотело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его употреблять. В крайнем случае скажите, что слово настолько отвратительно, что вы не можете произнести это всл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интересуется, почему люди произносят такие слова, скажите, например, что так говорят люди несдержанные и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воспита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когда хотят обидеть или разозлить друг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поймал на «нехорошем» слове вас, имеет смысл извиниться перед ним, сказать, что вам не удалось сдержаться, вы поступ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хо. Дайте ему понять, чт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крен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скаиваетесь, и впред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, старайтесь держать себя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8520" y="4365720"/>
            <a:ext cx="2265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98640" y="404640"/>
            <a:ext cx="53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грессия, направленная на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26828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чи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желание самоутвер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безысхо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сдерж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414972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уверенности в себе и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показатель неумения вести себя, отсутствия навыков культуры поведения, избалованности, эго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309564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4105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23920" y="189000"/>
            <a:ext cx="689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бы быть успешным в обществе, человек должен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44640"/>
            <a:ext cx="453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договарив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уступ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сдерживать свои эмо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выражать их более приемлемым спосо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нужно развивать с раннего детства, опираясь на реальные ситуации. Чем больше уделяется этому внимания в жизни малыша, тем легче будет подростку реализовать себя в будущем. Ведь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мение находить компромисс, уважать мнение других люд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неотъемлемая составляющая любо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8322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03160" y="260280"/>
            <a:ext cx="75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по отношению к окружающ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66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ослым необходимо бы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овательными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воих действиях по отношению к детям. Наибольшую агрессию проявляют дети, которые никогда не знали, какую реакцию родителей вызовет их поведение в этот раз. Например, за один и тот же поступок ребёнок в зависимости от настроения отца мог получить либо наказание, либо равнодушную реа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ет избега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неоправданного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нения силы и угроз. Злоупотребление такими мерами воздействия на детей формирует у них аналогичное поведение и может стать причиной появления в их характере таких черт, как злоба, жестокость и упрям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о помочь ребёнку научиться владеть собой. Дети должны знать о возможных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ств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оих поступков. Надо дать понять ребёнку, что агрессивное поведение никогда не принесёт желаемого результата. Самое главное -научить ребёнка разряжаться, дать ему возможность использовать переполняющую его энергию «в мирных цел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l1_friends_o"/>
          <p:cNvPicPr/>
          <p:nvPr/>
        </p:nvPicPr>
        <p:blipFill>
          <a:blip r:embed="rId2"/>
          <a:stretch/>
        </p:blipFill>
        <p:spPr>
          <a:xfrm>
            <a:off x="6629400" y="516564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983280" y="1052640"/>
            <a:ext cx="21607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92320" y="333360"/>
            <a:ext cx="67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жесток по отношению к живот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413000"/>
            <a:ext cx="5905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людайте за играми ребёнка. В играх дети реализуют и показывают свои мечты, фантазии и страхи. Если вы заметили, что в ходе игры ребёнок проявляет агрессию к игрушкам или домашним животным,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сторожите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остарайтесь найти причины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бсужд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ребёнком, на какого персонажа книги или мультфильма он хочет быть похож, почему тот или иной герой ему нравится или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уч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 рассказывать о том, что его волнует. Пусть он привыкнет прямо говорить о своих чувствах: «я рассердился», «я обиделся», «я расстроил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 в коем случае в порыве гнев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обзыв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. Чем больше агрессии с вашей стороны, тем больше её зародиться в ребёнке. Тогда, не имея возможности ответить вам, дети отыграются на кошке, собаке или побьют более слаб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давайте при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уманно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916360" cy="322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664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667640" y="40464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172360" y="4797360"/>
            <a:ext cx="66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а поведения для родите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84464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фиксировать внимание на агрессивном поведении ребёнка, самим не проявлять грубости, жесто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внимательными к ребё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ще включать в общение тепло, доброе слово, ласковый взгл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значимо для человека и наказание, если оно следует немедленно за проступком, объяснено ребёнку, оно оценивает действия ребёнка, а не его человеческие качества. Наказывая ребёнка, родители должны проявлять терпение, спокойствие и выдерж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ьному поведению, точнее умелому, надо учить ребёнка с самого раннего детства. Только добрый пример отца и матери может дать добрые всхо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132000" y="4653000"/>
            <a:ext cx="3384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064720" cy="58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60228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36:21Z</dcterms:created>
  <dc:creator>Ирина</dc:creator>
  <dc:description/>
  <dc:language>en-US</dc:language>
  <cp:lastModifiedBy>user</cp:lastModifiedBy>
  <dcterms:modified xsi:type="dcterms:W3CDTF">2009-12-06T11:15:45Z</dcterms:modified>
  <cp:revision>5</cp:revision>
  <dc:subject/>
  <dc:title>Слайд 1</dc:title>
</cp:coreProperties>
</file>